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4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20DB-5BDF-4DFA-BED8-62C28B6CE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867B-BE8F-4688-9F45-3CA47CAC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F55-816F-4BAA-83F5-40F4CBB8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027-0087-4B38-8461-7EE40B3C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FD2-87FF-44C4-AD5C-5DAF1C64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B84-4C09-41D7-BF42-FA3D4060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970-A79D-46A8-9417-F8038DA0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CB9-06E3-4FB8-B012-4DC2859D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540-E8E2-4DC4-9EBE-827FA6D7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493-FB3B-4B4D-BA63-A02E84E4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641-D3CE-4ED3-928C-E80CA30B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632-AD52-4FB0-BE7D-261482CB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B80-0682-483D-B7D4-38F98110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EB8-6A9C-4291-A901-366BBCA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00E3-59DD-4C36-BA5C-79296EEA5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101628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2"/>
          <p:cNvSpPr/>
          <p:nvPr/>
        </p:nvSpPr>
        <p:spPr>
          <a:xfrm>
            <a:off x="6802560" y="6000840"/>
            <a:ext cx="21333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23A6-8382-4D4B-AA72-BBA5C3716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440000" y="2057400"/>
            <a:ext cx="626400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ele eveniment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ata evenimen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flipH="1" rot="10800000">
            <a:off x="0" y="6477120"/>
            <a:ext cx="9144000" cy="85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401760" y="6561000"/>
            <a:ext cx="85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3f9a"/>
                </a:solidFill>
                <a:latin typeface="Calibri"/>
                <a:ea typeface="Times New Roman"/>
              </a:rPr>
              <a:t>www.inforegio.ro | facebook.com/inforegio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733920" y="4621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o benefi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2"/>
          <p:cNvSpPr/>
          <p:nvPr/>
        </p:nvSpPr>
        <p:spPr>
          <a:xfrm>
            <a:off x="6802560" y="6041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F9EF-4CE3-4D58-AF94-CA8D92AB8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flipH="1" rot="10800000">
            <a:off x="0" y="6477120"/>
            <a:ext cx="9144000" cy="8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401760" y="6561000"/>
            <a:ext cx="85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3f9a"/>
                </a:solidFill>
                <a:latin typeface="Calibri"/>
                <a:ea typeface="Times New Roman"/>
              </a:rPr>
              <a:t>www.inforegio.ro | facebook.com/inforegio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55600" y="16002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64990"/>
                </a:solidFill>
                <a:latin typeface="Calibri"/>
                <a:ea typeface="Calibri"/>
              </a:rPr>
              <a:t>Investim în viitorul tă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64990"/>
                </a:solidFill>
                <a:latin typeface="Calibri"/>
                <a:ea typeface="Calibri"/>
              </a:rPr>
              <a:t>Proiect cofinanțat din Fondul European de Dezvoltare Regională prin Programul Operațional Regional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10162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" descr=""/>
          <p:cNvPicPr/>
          <p:nvPr/>
        </p:nvPicPr>
        <p:blipFill>
          <a:blip r:embed="rId2"/>
          <a:stretch/>
        </p:blipFill>
        <p:spPr>
          <a:xfrm>
            <a:off x="274680" y="2682720"/>
            <a:ext cx="8613720" cy="67644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2"/>
          <p:cNvSpPr/>
          <p:nvPr/>
        </p:nvSpPr>
        <p:spPr>
          <a:xfrm>
            <a:off x="6885000" y="6103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7859-B056-4CD1-8E33-36BE0563F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-3240" y="6058080"/>
            <a:ext cx="891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Calibri"/>
                <a:ea typeface="Calibri"/>
              </a:rPr>
              <a:t>Conținutul acestui material nu reprezintă în mod obligatoriu poziția oficială a Uniunii Europene sau a Guvernului Românie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 flipH="1" rot="10800000">
            <a:off x="0" y="6477120"/>
            <a:ext cx="9144000" cy="85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401760" y="6561000"/>
            <a:ext cx="85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3f9a"/>
                </a:solidFill>
                <a:latin typeface="Calibri"/>
                <a:ea typeface="Times New Roman"/>
              </a:rPr>
              <a:t>www.inforegio.ro | facebook.com/inforegio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8:39:01Z</dcterms:created>
  <dc:creator>Delia</dc:creator>
  <dc:description/>
  <dc:language>en-US</dc:language>
  <cp:lastModifiedBy>adrse 103</cp:lastModifiedBy>
  <cp:lastPrinted>2019-07-15T12:19:33Z</cp:lastPrinted>
  <dcterms:modified xsi:type="dcterms:W3CDTF">2020-08-17T09:08:29Z</dcterms:modified>
  <cp:revision>630</cp:revision>
  <dc:subject/>
  <dc:title>Diapozitivul 1</dc:title>
</cp:coreProperties>
</file>