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4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170-69AA-4DC6-A84D-4143BB6AF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02E-7622-4C7C-81A3-AD396902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B11-D990-4A1A-B521-EF2716B5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A3E-91C5-4A3A-881B-B7E358E7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E42-047C-40DF-A351-2B030E8A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94C-5A0B-4A3D-99D6-F234F28E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2B7-02CE-4D8E-9941-8F58099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661-242B-48CC-9A1A-CE1C4A9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062-7FD5-40CE-BB3B-50194D6C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544-F1FB-4A09-8C0E-F3CB26A5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B37-B89E-4723-9C76-9DA60B6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8C8-A650-4BF0-81E1-82D159D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00B-0EF9-4FB4-827E-B12CACAD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DED-D2D3-4875-AC62-6F7125A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50F6-A62C-4DF4-ACC7-C6ACD2D38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101628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2"/>
          <p:cNvSpPr/>
          <p:nvPr/>
        </p:nvSpPr>
        <p:spPr>
          <a:xfrm>
            <a:off x="6802560" y="6000840"/>
            <a:ext cx="2133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D2A7-EFB4-45B1-95F7-EAB6FF3D9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440000" y="2057400"/>
            <a:ext cx="626400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ele eveniment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ata evenimen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flipH="1" rot="10800000">
            <a:off x="0" y="6477120"/>
            <a:ext cx="9144000" cy="85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401760" y="6561000"/>
            <a:ext cx="85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3f9a"/>
                </a:solidFill>
                <a:latin typeface="Calibri"/>
                <a:ea typeface="Times New Roman"/>
              </a:rPr>
              <a:t>www.inforegio.ro | facebook.com/inforegio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733920" y="4621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 benefi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2"/>
          <p:cNvSpPr/>
          <p:nvPr/>
        </p:nvSpPr>
        <p:spPr>
          <a:xfrm>
            <a:off x="6802560" y="6041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BE75-6047-471D-B347-F01543EF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flipH="1" rot="10800000">
            <a:off x="0" y="6477120"/>
            <a:ext cx="9144000" cy="8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401760" y="6561000"/>
            <a:ext cx="85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3f9a"/>
                </a:solidFill>
                <a:latin typeface="Calibri"/>
                <a:ea typeface="Times New Roman"/>
              </a:rPr>
              <a:t>www.inforegio.ro | facebook.com/inforegio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55600" y="16002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64990"/>
                </a:solidFill>
                <a:latin typeface="Calibri"/>
                <a:ea typeface="Calibri"/>
              </a:rPr>
              <a:t>Investim în viitorul tă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264990"/>
                </a:solidFill>
                <a:latin typeface="Calibri"/>
                <a:ea typeface="Calibri"/>
              </a:rPr>
              <a:t>Proiect cofinanțat din Fondul European de Dezvoltare Regională prin Programul Operațional Regional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10162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2"/>
          <a:stretch/>
        </p:blipFill>
        <p:spPr>
          <a:xfrm>
            <a:off x="274680" y="2682720"/>
            <a:ext cx="8613720" cy="67644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2"/>
          <p:cNvSpPr/>
          <p:nvPr/>
        </p:nvSpPr>
        <p:spPr>
          <a:xfrm>
            <a:off x="6885000" y="6103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E00C-221B-469D-BD94-BC8D974F7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-3240" y="605808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Calibri"/>
                <a:ea typeface="Calibri"/>
              </a:rPr>
              <a:t>Conținutul acestui material nu reprezintă în mod obligatoriu poziția oficială a Uniunii Europene sau a Guvernului României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 flipH="1" rot="10800000">
            <a:off x="0" y="6477120"/>
            <a:ext cx="9144000" cy="85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401760" y="6561000"/>
            <a:ext cx="85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3f9a"/>
                </a:solidFill>
                <a:latin typeface="Calibri"/>
                <a:ea typeface="Times New Roman"/>
              </a:rPr>
              <a:t>www.inforegio.ro | facebook.com/inforegio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39:01Z</dcterms:created>
  <dc:creator>Delia</dc:creator>
  <dc:description/>
  <dc:language>en-US</dc:language>
  <cp:lastModifiedBy>adrse 103</cp:lastModifiedBy>
  <cp:lastPrinted>2019-07-15T12:19:33Z</cp:lastPrinted>
  <dcterms:modified xsi:type="dcterms:W3CDTF">2020-08-17T09:08:29Z</dcterms:modified>
  <cp:revision>630</cp:revision>
  <dc:subject/>
  <dc:title>Diapozitivul 1</dc:title>
</cp:coreProperties>
</file>